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4ED-8B5F-4823-A98F-C49AA2F8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4B1-67B8-4A8A-A894-E0AB81B6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BC1-7AEC-4117-9F20-5E841452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C36-B30D-4115-BB79-26447203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906-E1FE-4B7E-9BE5-AD853BB5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0E6-ECE7-463E-9C67-521B4F5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AD5-8E95-4FD3-81F3-B4F8DD85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3C0-A0E7-40AE-819E-E888A5C9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177-C46E-4D8E-B56F-20654252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472-24D7-4EF6-B5BB-8A6AEBAC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7D4-2EAE-4AA0-93DE-1CEA7778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AFE-AF1D-4DC1-BD70-5B1B5110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97EF-D6D6-4D43-9C44-D560F1E51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do I need to ask questions and collect d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ckb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you know if you have enough money to buy someth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determine appropriate tools of measur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for me to know how to measure different objects using different tools of measuremen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I know if an estimate is close to the actual measure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use a thermomete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hat I know how to measure temperatur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counting by five help me to determine time in an hou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does telling time to the nearest five minutes mea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determine the number of hours in a da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en is it appropriate to estimate a measurement or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use data to help me understand the answers to the questions pos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are plane figures and solid figures related?  How are they differ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ere can we find geometric figures in the world around u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we describe geometric figur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are angl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happens when I put geometric figures togeth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will I see if I cut apart geometric figure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o identify fractions (thirds, sixths, eighths, tenths) as representations of equal parts of a whole or of a s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mportant to label fractions (thirds, sixths, eighths, tenths) as representations of equal parts of a whole or of a s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o compare fractions (thirds, sixths, eighths, tenths) as representations of equal parts of a whole or of a s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is a fraction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n what way can I use a Venn diagram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do the parts of a fraction tell about its numerator and denominato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do the parts of a fraction tell about its numerator and denominato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f you have 2 fractions, how do you know which is greater or has more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you know how many fractional parts make a who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subtraction help me to know if I added two numbers correctl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addition help me know if I subtracted two numbers correctl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en one set of objects is compared to another, what are the possible outcom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Can I change the order of numbers when I add (or subtract)?  Why or why no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solve problems mentall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estimation help me to know if my answer is correc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should I understand place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are multiplication and addition rela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n what ways is a multiplication table helpf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may I determine factors of multiplic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can I divide large collections of object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are the different ways you can show or make (represent) a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at is the difference between place and valu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If you have two or more numbers, how do you know which is greater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Why is it important to be able to count amounts of money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How do you make sure you are given the correct change after you buy someth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42:33Z</dcterms:created>
  <dc:creator>Abby Owens</dc:creator>
  <dc:description/>
  <dc:language>en-US</dc:language>
  <cp:lastModifiedBy>Abby Owens</cp:lastModifiedBy>
  <dcterms:modified xsi:type="dcterms:W3CDTF">2010-05-27T23:58:45Z</dcterms:modified>
  <cp:revision>31</cp:revision>
  <dc:subject/>
  <dc:title>Why do I need to ask questions and collect data?</dc:title>
</cp:coreProperties>
</file>